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1F005-E406-4729-A4EC-ACCC5674115B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FA90A-DFA1-4FFA-AB7B-02C5210EC4B4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BC8969-25C2-481E-9375-28C6F932A5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BB773-C7C1-43F7-A33B-D821AAD9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A5A0A-7F91-472D-87EF-074D0C6F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B2B42-A77D-4A04-8E1A-D541E3A8E1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39D5B-F492-423F-9325-E8E530466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2758-22D3-4C95-8B14-4D10F3B7B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AD10A-FAA8-4BEA-A0B4-89978BBD6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066A9-1705-4A9D-B915-774E679B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6D49-C17C-42AE-B427-2FB4C6C5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4355-6547-455D-AA13-A8B1FC353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820F0-80FE-44A8-B98E-BEE0A3DD2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6F337-4F50-4A7E-B92D-83DAC86B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46202-A04B-4888-9B9D-6BCA6B2AFDF0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00000" y="2276640"/>
            <a:ext cx="76327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第四章</a:t>
            </a:r>
            <a:r>
              <a:rPr b="1" lang="en-US" sz="6000" spc="-1" strike="noStrike">
                <a:solidFill>
                  <a:srgbClr val="ffffff"/>
                </a:solidFill>
                <a:latin typeface="华文新魏"/>
              </a:rPr>
              <a:t> 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9280" y="1268280"/>
          <a:ext cx="8964720" cy="5220000"/>
        </p:xfrm>
        <a:graphic>
          <a:graphicData uri="http://schemas.openxmlformats.org/drawingml/2006/table">
            <a:tbl>
              <a:tblPr/>
              <a:tblGrid>
                <a:gridCol w="644760"/>
                <a:gridCol w="1442880"/>
                <a:gridCol w="2693880"/>
                <a:gridCol w="1843200"/>
                <a:gridCol w="2340000"/>
              </a:tblGrid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代偿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休克抑制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程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轻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中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重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632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清楚，伴有痛苦的表情，精神紧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神志尚清楚，表情淡漠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意识模糊，神志不清，昏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口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很明显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非常明显，可能无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row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皮肤黏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色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开始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苍白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显著苍白，肢端青紫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温度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，发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发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厥冷（肢端更明显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980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脉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以下，尚有力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次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/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分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速而细弱或摸不清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66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压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正常或稍高，舒张压增高，脉压缩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为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9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，脉压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收缩压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70mmHg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或测不到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488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周围循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表浅静脉塌陷，毛细血管充盈迟缓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毛细血管充盈更迟缓，表浅静脉塌陷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4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正常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尿少或无尿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7440">
                <a:tc gridSpan="2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估计失血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＜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2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80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40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％（＞</a:t>
                      </a:r>
                      <a:r>
                        <a:rPr b="0" lang="en-US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1600ml</a:t>
                      </a:r>
                      <a:r>
                        <a:rPr b="0" lang="zh-CN" sz="16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、尿和粪便常规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生化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凝血功能检查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气分析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动脉血乳酸盐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血浆电解质测定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胃肠黏膜内</a:t>
            </a: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pH</a:t>
            </a: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监测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影像学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流动力学监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肺毛细血管楔压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CW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心排出量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O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和心脏指数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I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穹隆穿刺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有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发病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无危及生命的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患者受伤或发病后的救治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评估患者及家属的情绪变化、心理承受能力及对治疗和预后的了解程度，并了解引起其不良情绪反应的原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尽早去除病因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恢复有效循环血量，纠正微循环障碍，恢复组织灌注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增强心肌功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恢复正常代谢和防止多器官功能障碍综合征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B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该患者入院后，立即开通两条静脉通道，按医嘱输同型红细胞悬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血浆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切口换药后进行冰敷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患者已进行了哪些治疗？还需如何处置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急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迅速解决紧急情况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安置患者于平卧位（非心源性休克可给予休克体位），血压稳定前禁止搬运患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开放气道，给予大流量吸氧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立刻建立静脉通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根据病因给予相应治疗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初步容量复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充血容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血管活性药物辅助扩容治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纠正酸碱平衡失调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微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积极处理原发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控制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皮质类固醇使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治并发症及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ODS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1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液不足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大量失血，失液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气体交换受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缺氧和呼吸型态改变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温异常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感染、组织灌注不足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有受伤的危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与微循环障碍、烦躁不安、意识不清、疲乏无力等有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潜在并发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多器官功能障碍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复述休克的概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列举休克的病因和分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概述休克患者的身心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C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测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11/7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分，患者精神好转，眼睑及口唇苍白好转，双下肢皮肤较前温暖，足背动脉搏动良好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问题：①应如何监测病情变化？②患者病情是好转还是恶化？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：收缩压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和（或）脉压差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率 ：脉率增快多出现在血压下降之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意识状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末梢循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监测病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 ：尿量少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5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比重增加，表明血容量不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颈静脉和周围静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中心静脉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呼吸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体液平衡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建立静脉通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补液种类：先晶后胶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合理补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准确记录出入量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改善组织灌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取休克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使用抗休克裤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使用血管活性药物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正常体温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维持有效的气体交换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呼吸道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改善缺氧状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误吸、窒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休克好转指标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神志清楚、安静，四肢温暖，末梢循环充盈良好，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ml/h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脉搏有力＜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收缩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2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压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.7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呼吸均匀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左右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.66 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红细胞压积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％，血浆电解质和酸碱平衡基本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病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各种导致有效循环血量锐减、组织血液灌流不足的因素均可引起休克，外科最常见原因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病情的发展分为休克代偿期和抑制期，可以通过一看（神志、表情、口渴情况、皮肤黏膜色泽、毛细胞血管充盈时间）、二摸（四肢浅静脉、脉搏、肢端温度）、三测（动脉收缩压、脉压）、四量（尿量）来监测休克的临床表现，还可通过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VP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、心输出量、动脉血气分析、动脉血乳酸盐含量等监测休克表现及进展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除休克外，应注意患者有无其他危及生命的情况需进行紧急救治，治疗中应尽早去除病因，迅速恢复有效循环血量，纠正微循环障碍，恢复组织灌注，增强心肌功能，防止脏器功能损伤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护理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监测患者的血压、脉搏、微循环情况及血流动力学情况，尤其注意要迅速补充血容量，维持体液平衡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阐明休克的病理生理过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休克一般监测和特殊监测项目及意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比较各种类型休克的特点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主诉腹胀、腹痛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年入院，肠镜提示距肛缘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cm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处可见一溃疡病变，病例提示腺癌，行直肠癌根治切除骶前吻合术，术后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7.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8.5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术后第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患者出现寒战、高热、体温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41℃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辅助检查：血常规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WBC 3.5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N 0.7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HG 86g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LT 80×10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血气分析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H 7.2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2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PaC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SaO</a:t>
            </a:r>
            <a:r>
              <a:rPr b="0" lang="en-US" sz="2800" spc="-1" strike="noStrike" baseline="-25000">
                <a:solidFill>
                  <a:srgbClr val="046ca6"/>
                </a:solidFill>
                <a:latin typeface="华文新魏"/>
              </a:rPr>
              <a:t>2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0%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E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－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.2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；电解质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K</a:t>
            </a:r>
            <a:r>
              <a:rPr b="0" lang="en-US" sz="2800" spc="-1" strike="noStrike" baseline="30000">
                <a:solidFill>
                  <a:srgbClr val="046ca6"/>
                </a:solidFill>
                <a:latin typeface="华文新魏"/>
              </a:rPr>
              <a:t>+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3.15mmol/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急诊剖腹探查发现：腹部切口呈化脓性感染，腹腔有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脓性液体，骶前吻合有瘘口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华文新魏"/>
              </a:rPr>
              <a:t>请问：患者发生了什么类型的休克？原因是什么？还出现什么问题？护理要点是什么？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出现感染性休克，与术后吻合口瘘有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患者同时出现低钾血症、代谢性酸中毒、呼吸功能损害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护理要点包括补充血容量、控制感染、纠正酸碱失衡、应用血管活性药物应用皮质激素、重要器官功能不全护理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休克患者扩容治疗时首选的晶体液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9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碳酸氢钠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氯化钠溶液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葡萄糖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平衡盐溶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提示有休克的休克指数为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5  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＜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5       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0                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.0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，肝硬化，突发大量呕血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患者烦躁，面色苍白，皮肤湿冷，血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3.3/9.3kP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70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，脉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其表现属于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早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中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休克晚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未发生休克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虚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5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失血性休克，正在进行扩容疗法，中心静脉压检测为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cmH</a:t>
            </a:r>
            <a:r>
              <a:rPr b="0" lang="en-US" sz="36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O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.49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血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70/50mmHg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9.3/6.7kP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，应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快输液速度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维持原速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减慢滴速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停止输液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加用强心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一休克患者，在抢救过程中出现呼吸困难、发绀，吸氧无效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aO</a:t>
            </a:r>
            <a:r>
              <a:rPr b="0" lang="en-US" sz="3200" spc="-1" strike="noStrike" baseline="-25000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持续降低。诊断为呼吸窘迫综合征，护理措施首先应采取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呼吸终末正压给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持续吸纯氧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快速输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    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气管切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．给血管活性药物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关于休克护理措施错误的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平卧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常规吸氧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给热水袋保暖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观察每小时尿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       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每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～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5min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测血压、脉搏一次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B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根据休克患者的临床表现和检查指标，判断其临床分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休克患者，并制订护理计划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休克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hock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是指机体受到强烈的致病因素侵袭后，导致有效循环血量锐减、组织血液灌流不足所引起的以微循环障碍、代谢障碍和细胞受损为特征的病理性综合征。休克发病急骤，进展迅速。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原因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主要是失血、脱水、血浆丢失、严重创伤等，最常见的类型是低血容量性和感染性休克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4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岁，女性。因右股骨头坏死，在腰硬联合麻醉下行“右髋关节置换术”，术中出血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6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返回病房，留置伤口引流管一根，尿管一根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30/8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检查见敷料干洁，下肢肢端温暖，口唇淡红，引流正常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患者出现神志淡漠，口唇苍白，测血压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95/60mmHg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心率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88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分，双下肢肢端皮肤温凉，少许出冷汗。检查见敷料渗血较多，伤口引流管引流暗红色血性液体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5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留置尿管引流淡黄色尿液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0ml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①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发生了什么问题？处于何阶段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该患者评估要点有哪些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代偿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精神紧张，烦躁不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面色苍白，皮肤湿冷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脉搏增快，呼吸增快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血压变化不大，但脉压缩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尿量正常或减少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</a:rPr>
              <a:t>外科休克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13160" indent="-27432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097280" indent="-21924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休克抑制期 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表情淡漠、反应迟钝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皮肤黏膜发绀或花斑、四肢冰冷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脉搏细速，呼吸浅促，血压进行性下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尿量减少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浅静脉萎陷，毛细血管充盈时间延长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536120" indent="-21924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出现代谢性酸中毒的症状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4:02:28Z</dcterms:modified>
  <cp:revision>89</cp:revision>
  <dc:subject/>
  <dc:title>内科护理学</dc:title>
</cp:coreProperties>
</file>